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DFA6-D07F-46C2-B91C-52F9F41D7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15E4-20F3-4951-924D-00A12B8E8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C1C4-FEAD-45DE-8B01-BB370E564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F933-AE0B-42A0-BF82-B761BB782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D79BC-D536-4E5B-B26A-69AFCC1B4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8E882-96F7-46D2-A7A8-368E73595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D2BE6-0CEB-495A-9898-48CE54DFD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EB13E-2CBF-46E4-9B8C-BEE77547B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2BFFB-AFAD-4FEC-BE47-EB8652290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F1A10-B24A-425E-908C-4AB3D466B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84351-DEFE-463A-A196-37BDEEC75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924B-4ED7-4DD7-8C5F-81134A731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2F98D-B9E7-4778-B09F-25E85A0E9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DA6C5-2B71-46BA-B4E6-332AB6BD1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09BC5-CFFD-4E74-BB70-32FE7A11D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6CF1B-E58D-40B3-A18F-C94F3BF2A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ACC32-89EF-4C89-83DD-905D69613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0216-070D-4C8F-8485-AB66BE183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4EE7-909E-49B3-BC36-1A71FC691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8A92-525A-4C4C-B8D6-B8BAEE342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714C-924E-4EEB-8513-2191CFE17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957A-2853-49CB-B8AC-4A477DDD7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569F-0BE9-4728-8042-5D2964218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EC54-3719-4D45-AF02-B158B3660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C291A-B784-4588-B7E8-DBE11F7C6A9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8103D-626D-401E-B247-C035AC517A4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Дорожные 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ситуации – «ловушки»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905120" y="1828800"/>
            <a:ext cx="5410080" cy="406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00100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Ловушки” середины дорог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7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ешеход, находящийся между потоками движущихся автомобилей, сильно испуган и его поведение хаотично и не поддается логике и прогнозу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бзор могут закрывать стоящие рядом пешеходы. От большого количества мелькающих рядом автомашин может закружиться голова, и пешеход потеряет равновесие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2743200"/>
            <a:ext cx="7924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rcRect l="45026" t="28519" r="3031" b="9096"/>
          <a:stretch/>
        </p:blipFill>
        <p:spPr>
          <a:xfrm>
            <a:off x="5562720" y="1752480"/>
            <a:ext cx="293832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34084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Ловушки” при движении вдоль проезжей части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7025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В эту ситуацию пешеход может попасть, если идет по дороге в нарушение правил дорожного движения, то есть по ходу движения транспортных средств. В этом случае движение автомобилей происходит со спины, и пешеход не видит опасность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Автомобиль на скользкой дороге может вильнуть, или груз выступает за борта – все это грозит пешеходу травмам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Ловушки” закрытого обзора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7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Это дорожные ситуации, когда опасность скрыта от пешехода за кустами, деревьями, забором, сугробом, стоящими и движущимися автомобилями, другими пешеходами. Обзору дороги могут мешать повороты, спуски и подъемы самой дороги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105520" y="3886200"/>
            <a:ext cx="3581280" cy="22766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105520" y="1523880"/>
            <a:ext cx="3581280" cy="22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Ловушки” в зоне остановки маршрутного транспорт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259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В зоне остановки попадает в ДТП треть пострадавших детей, в основном из-за стоящих маршрутных транспортных средств – большой помехи обзору на дороге и спешки пешеходов или пассажиров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rcRect l="0" t="981" r="13762" b="0"/>
          <a:stretch/>
        </p:blipFill>
        <p:spPr>
          <a:xfrm>
            <a:off x="4114800" y="2152800"/>
            <a:ext cx="4419720" cy="30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80010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Ловушки” на пешеходном переход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7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Обычно думают, что пешеходный переход – это безопасная зона, на которой с пешеходом ничего не может случиться. А ведь и здесь остановившийся автомобиль может скрывать движущийся, равно как и проехавший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800600" y="1676520"/>
            <a:ext cx="3886200" cy="20955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792680" y="3941640"/>
            <a:ext cx="3894120" cy="20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26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Ловушки” на углу перекрестк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7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Опасность на углу перекрестка состоит в том, что автотранспорт может поворачивать направо, при этом и водителю, и пешеходу горит зеленый сигнал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Иногда задние колеса автобусов, грузовиков, прицепов оказываются очень близко к тротуару, бывает неопытный водитель выезжает на “бровку” тротуара, к тому же автотранспорт может быть с прицепом или буксировать другой автомобиль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2743200"/>
            <a:ext cx="7924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640400" y="2544840"/>
            <a:ext cx="3927240" cy="268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800100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Ловушки” у светофо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3195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У светофора, нельзя забывать, что на дороге могут возникнуть самые непредвиденные обстоятельства, например, поедут на красный сигнал спецавтомашины (скорая помощь, милиция, пожарная); могут быть и водители, нарушающие ПДД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Нередко и сами пешеходы, как взрослые, так и дети, переходят дорогу на красный сигнал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2895480"/>
            <a:ext cx="792504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114800" y="2057400"/>
            <a:ext cx="4876920" cy="30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Ловушки” отвлечения вним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853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Пешеход не замечает опасность, потому что его взгляд прикован к интересующему его предмету – автобус на другой стороне дороги, приятель, мяч, собака, лужа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К дорожным “ловушкам” могут привести и еще два изобретения – плеер и мобильный телефон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rcRect l="0" t="0" r="0" b="5202"/>
          <a:stretch/>
        </p:blipFill>
        <p:spPr>
          <a:xfrm>
            <a:off x="4876920" y="3962520"/>
            <a:ext cx="3581280" cy="20574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rcRect l="19171" t="2190" r="5766" b="0"/>
          <a:stretch/>
        </p:blipFill>
        <p:spPr>
          <a:xfrm>
            <a:off x="4876920" y="1676520"/>
            <a:ext cx="3593880" cy="213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Ловушки” понижения внима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44625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о дороге, окруженной жилыми домами, зеленью,  редко проезжает транспорт, и создается ложное представление об отсутствии угрозы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У водителей тоже притупляется внимание, и они едут быстрее обычного, не предполагая появления пешеходов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Такие дороги часто становятся любимым местом роллеров, скейтбордистов, а также для различных игр, катания на санках и коньках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2514600"/>
            <a:ext cx="792504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181480" y="2362320"/>
            <a:ext cx="3702240" cy="241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Ловушки”, подстерегающие возле дом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4800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Нельзя выбегать, не осмотревшись, из-за стоящего транспорта. Если возле дома стоит автомобиль, необходимо помнить, что он может поехать вперед, не подав сигнал, или, что опаснее, – задним ходо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собенно опасны грузовики-фургоны, такси и автомобили скорой помощи. Водителям грузовиков трудно наблюдать и замечать пешеходов. Такси и “скорая помощь” часто спешат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оезды у домов часто становятся местом для игр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486400" y="1600200"/>
            <a:ext cx="2971800" cy="22003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5486400" y="3962520"/>
            <a:ext cx="2971800" cy="2333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алина</cp:lastModifiedBy>
  <dcterms:modified xsi:type="dcterms:W3CDTF">2010-04-06T05:06:20Z</dcterms:modified>
  <cp:revision>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